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6E92C-FD62-409A-A9D8-D39A9DCDC8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id Life in Egypt affect Medicine?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cient Medicin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Life in Egypt affect Medic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ient Medi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eate a pictogra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id Life in Egypt affect Medicine?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pict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Life in Egypt affect Medic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cient Medicin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000BC – 500A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gyptians 3000BC-1000BC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eks 1000BC – 500BC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mans 500BC – 500 A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ey – examine patterns and themes across the perio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cus: Egyp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ient Medi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00BC – 500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yptians 3000BC-1000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s 1000BC – 500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500BC – 500 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– examine patterns and themes across the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: Egy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gypt – A Wealthy Countr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althy countr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werful rule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d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rme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it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d to various improvements in medicin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ypt – A Wealthy 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lthy 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ful rul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d to various improvements in medi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ecialists Docto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ducated docto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araoh had his own physicia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ly the rich could afford docto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ctors researched new ways to treat patient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ts Do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ed do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raoh had his own physic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the rich could afford do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tors researched new ways to treat pat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tal Worke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killed worke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duced tools and jeweller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so developed new surgical instrument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ked to doctors who would use medical instrument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lled 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d tools and jewell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developed new surgical instr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ed to doctors who would use medical instr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d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ks with India, Africa and China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ded Egyptian goods for herb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de herbal remedi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s with India, Africa and 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d Egyptian goods for he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herbal reme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it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pyru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iting was easi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medies and records were kep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could be passed 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y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 was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dies and records were ke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could be passed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lig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pernatural approach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s e.g. Sekhme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mmificat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section forbidde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natural appro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s e.g. Sekhm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mm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ection forbid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ile and Farm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ile important to way of lif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ctors based medical ideas on the Nil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nnel syste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ile and Fa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le important to way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tors based medical ideas on the N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0796-AEFD-492D-A751-F35CC6819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D359-B03C-46E5-8B2E-AB5FAB080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C4E5-13C8-43B1-8D0A-5A12B370E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1882-E8C3-4497-8B04-181228309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B7A8-B050-4DD1-AAB0-69EB748F3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FD5B-9C57-4847-8DA2-C235E00C9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0F74-2F0C-4EF6-941B-289996709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3E63-9D44-4782-A080-E4EAD198D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66A7-3E2C-48F4-B6CB-E7F229EC0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AE1E-49D8-4A12-9A32-69505AE0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E1EC-4F8D-4410-81DA-C564C9A0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085D-9037-4B0C-B5FF-30906C69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C45F-2594-43A4-89DD-A8E161D22404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mathstat.carleton.ca/~rhfischl/great_pyramid/pyramid.jpg&amp;imgrefurl=http://mathstat.carleton.ca/~rhfischl/great_pyramid/great_pyramid.html&amp;h=398&amp;w=547&amp;sz=68&amp;tbnid=U_AXrTzMU0co1M:&amp;tbnh=94&amp;tbnw=130&amp;hl=en&amp;start=1&amp;prev=/images%3Fq%3Dpyramid%26svnum%3D10%26hl%3Den%26lr%3D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bradfitzpatrick.com/stock_illustration/images/cartoon_doctor_001.gif&amp;imgrefurl=http://www.bradfitzpatrick.com/stock_illustration/cartoon_doctor_001.htm&amp;h=180&amp;w=240&amp;sz=9&amp;tbnid=Av5TK6Y4mwRv6M:&amp;tbnh=78&amp;tbnw=104&amp;hl=en&amp;start=1&amp;prev=/images%3Fq%3Dcartoon%2Bdoctor%26svnum%3D10%26hl%3Den%26lr%3D%26sa%3D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.uk/imgres?imgurl=http://www.istockphoto.com/file_thumbview_approve/319828/2/istockphoto_319828_the_blacksmith.jpg&amp;imgrefurl=http://www.istockphoto.com/imageindex/319/8/319828/The_Blacksmith.html&amp;h=270&amp;w=266&amp;sz=20&amp;tbnid=yl740sy3YV-cZM:&amp;tbnh=108&amp;tbnw=106&amp;hl=en&amp;start=2&amp;prev=/images%3Fq%3Dcartoon%2Bblacksmith%26svnum%3D10%26hl%3Den%26lr%3D%26sa%3DG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ages.google.co.uk/imgres?imgurl=http://www.axelnelson.com/antik/antik.jpg&amp;imgrefurl=http://www.axelnelson.com/skepp/egypt.htm&amp;h=259&amp;w=354&amp;sz=15&amp;tbnid=imVII-HbhbKlLM:&amp;tbnh=85&amp;tbnw=117&amp;hl=en&amp;start=1&amp;prev=/images%3Fq%3Degyptian%2Bships%26svnum%3D10%26hl%3Den%26lr%3D" TargetMode="External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roche.ie/HR/Insite/email_vorlage_files/cartoon_money_01.jpg&amp;imgrefurl=http://www.roche.ie/HR/Insite/Insite_July05_Web.html&amp;h=180&amp;w=240&amp;sz=15&amp;tbnid=b24KDO9DGCKRAM:&amp;tbnh=78&amp;tbnw=104&amp;hl=en&amp;start=1&amp;prev=/images%3Fq%3Dmoney%2Bcartoon%26svnum%3D10%26hl%3Den%26lr%3D%26sa%3D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bradfitzpatrick.com/stock_illustration/images/cartoon_doctor_001.gif&amp;imgrefurl=http://www.bradfitzpatrick.com/stock_illustration/cartoon_doctor_001.htm&amp;h=180&amp;w=240&amp;sz=9&amp;tbnid=Av5TK6Y4mwRv6M:&amp;tbnh=78&amp;tbnw=104&amp;hl=en&amp;start=1&amp;prev=/images%3Fq%3Dcartoon%2Bdoctor%26svnum%3D10%26hl%3Den%26lr%3D%26sa%3D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istockphoto.com/file_thumbview_approve/319828/2/istockphoto_319828_the_blacksmith.jpg&amp;imgrefurl=http://www.istockphoto.com/imageindex/319/8/319828/The_Blacksmith.html&amp;h=270&amp;w=266&amp;sz=20&amp;tbnid=yl740sy3YV-cZM:&amp;tbnh=108&amp;tbnw=106&amp;hl=en&amp;start=2&amp;prev=/images%3Fq%3Dcartoon%2Bblacksmith%26svnum%3D10%26hl%3Den%26lr%3D%26sa%3D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axelnelson.com/antik/antik.jpg&amp;imgrefurl=http://www.axelnelson.com/skepp/egypt.htm&amp;h=259&amp;w=354&amp;sz=15&amp;tbnid=imVII-HbhbKlLM:&amp;tbnh=85&amp;tbnw=117&amp;hl=en&amp;start=1&amp;prev=/images%3Fq%3Degyptian%2Bships%26svnum%3D10%26hl%3Den%26lr%3D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earlham.edu/~seidti/iam/papyrus_66a.gif&amp;imgrefurl=http://www.earlham.edu/~seidti/iam/tc_pap66.html&amp;h=650&amp;w=568&amp;sz=334&amp;tbnid=ojruY8Oig9YPLM:&amp;tbnh=135&amp;tbnw=117&amp;hl=en&amp;start=17&amp;prev=/images%3Fq%3Dpapyrus%26svnum%3D10%26hl%3Den%26lr%3D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members.aol.com/egyptnew/myth/sekmet1.gif&amp;imgrefurl=http://members.aol.com/egyptart/sekmet.html&amp;h=441&amp;w=238&amp;sz=61&amp;tbnid=yLPfAyL_47DV_M:&amp;tbnh=123&amp;tbnw=66&amp;hl=en&amp;start=8&amp;prev=/images%3Fq%3Dsekhmet%26svnum%3D10%26hl%3Den%26lr%3D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707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How did Life in Egypt affect Medicine?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cient Medic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5" descr="pyrami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59280" y="836640"/>
            <a:ext cx="3025440" cy="165564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Create a pictogram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635280" y="3213000"/>
            <a:ext cx="23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1830960" y="3213000"/>
            <a:ext cx="57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fd293"/>
                </a:solidFill>
                <a:latin typeface="Arial"/>
              </a:rPr>
              <a:t>How did Life in Egypt affect Medicin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684360" y="1484280"/>
            <a:ext cx="187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6" descr="cartoon_doctor_0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557360"/>
            <a:ext cx="1368720" cy="1224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istockphoto_319828_the_blacksmith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95640" y="1557360"/>
            <a:ext cx="1225800" cy="1366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antik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164360" y="1628640"/>
            <a:ext cx="1368360" cy="1295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papyrus_66a"/>
          <p:cNvPicPr/>
          <p:nvPr/>
        </p:nvPicPr>
        <p:blipFill>
          <a:blip r:embed="rId7"/>
          <a:stretch/>
        </p:blipFill>
        <p:spPr>
          <a:xfrm>
            <a:off x="539640" y="4508640"/>
            <a:ext cx="1295640" cy="1657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sekmet1"/>
          <p:cNvPicPr/>
          <p:nvPr/>
        </p:nvPicPr>
        <p:blipFill>
          <a:blip r:embed="rId8"/>
          <a:stretch/>
        </p:blipFill>
        <p:spPr>
          <a:xfrm>
            <a:off x="3924360" y="4581360"/>
            <a:ext cx="1873080" cy="1513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08"/>
          <p:cNvPicPr/>
          <p:nvPr/>
        </p:nvPicPr>
        <p:blipFill>
          <a:blip r:embed="rId9"/>
          <a:stretch/>
        </p:blipFill>
        <p:spPr>
          <a:xfrm>
            <a:off x="7236000" y="4221000"/>
            <a:ext cx="1728720" cy="2167200"/>
          </a:xfrm>
          <a:prstGeom prst="rect">
            <a:avLst/>
          </a:prstGeom>
          <a:ln w="0">
            <a:noFill/>
          </a:ln>
        </p:spPr>
      </p:pic>
      <p:sp>
        <p:nvSpPr>
          <p:cNvPr id="93" name="Line 14"/>
          <p:cNvSpPr/>
          <p:nvPr/>
        </p:nvSpPr>
        <p:spPr>
          <a:xfrm flipH="1">
            <a:off x="1619280" y="3645000"/>
            <a:ext cx="7207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15"/>
          <p:cNvSpPr/>
          <p:nvPr/>
        </p:nvSpPr>
        <p:spPr>
          <a:xfrm flipH="1">
            <a:off x="4858920" y="3789360"/>
            <a:ext cx="7308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Line 16"/>
          <p:cNvSpPr/>
          <p:nvPr/>
        </p:nvSpPr>
        <p:spPr>
          <a:xfrm>
            <a:off x="6804000" y="3716280"/>
            <a:ext cx="50472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Line 17"/>
          <p:cNvSpPr/>
          <p:nvPr/>
        </p:nvSpPr>
        <p:spPr>
          <a:xfrm flipV="1">
            <a:off x="6516720" y="2565000"/>
            <a:ext cx="57636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18"/>
          <p:cNvSpPr/>
          <p:nvPr/>
        </p:nvSpPr>
        <p:spPr>
          <a:xfrm flipH="1" flipV="1">
            <a:off x="1908000" y="2924280"/>
            <a:ext cx="43200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19"/>
          <p:cNvSpPr/>
          <p:nvPr/>
        </p:nvSpPr>
        <p:spPr>
          <a:xfrm flipV="1">
            <a:off x="4716360" y="292392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Ancient Medicin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000BC – 500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gyptians 3000BC-1000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reeks 1000BC – 500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omans 500BC – 500 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Key – examine patterns and themes across the peri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ocus: Egy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Egypt – A Wealthy Country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ealthy coun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werful ru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r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ar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ri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ed to various improvements in medic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6" descr="cartoon_money_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76720" y="1844640"/>
            <a:ext cx="3527640" cy="367200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Specialists Doctor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ucated do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haraoh had his own physic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nly the rich could afford do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octors researched new ways to treat pat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6" descr="cartoon_doctor_0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557360"/>
            <a:ext cx="3168720" cy="431964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Metal Worker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killed work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duced tools and jewell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lso developed new surgical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nked to doctors who would use medical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9" descr="istockphoto_319828_the_blacksmith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628640"/>
            <a:ext cx="3600360" cy="439272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Tra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nks with India, Africa and Ch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raded Egyptian goods for her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de herbal reme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6" descr="anti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6360" y="1628640"/>
            <a:ext cx="3961080" cy="446580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Writing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pyr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riting was eas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medies and records were ke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se could be passed 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6" descr="papyrus_66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628640"/>
            <a:ext cx="3672000" cy="453708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Religion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upernatural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ods e.g. Sekhm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umm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ssection forbidd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Picture 6" descr="sekmet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1557360"/>
            <a:ext cx="3024360" cy="446400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The Nile and Farming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ile important to way of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octors based medical ideas on the N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hannel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6" descr="08"/>
          <p:cNvPicPr/>
          <p:nvPr/>
        </p:nvPicPr>
        <p:blipFill>
          <a:blip r:embed="rId1"/>
          <a:stretch/>
        </p:blipFill>
        <p:spPr>
          <a:xfrm>
            <a:off x="539640" y="1773360"/>
            <a:ext cx="3816360" cy="403848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10:20:15Z</dcterms:created>
  <dc:creator>cjames</dc:creator>
  <dc:description>How did Life in Egypt affect Medicine?</dc:description>
  <cp:keywords>How did Life in Egypt affect Medicine?</cp:keywords>
  <dc:language>en-US</dc:language>
  <cp:lastModifiedBy>LEGION</cp:lastModifiedBy>
  <dcterms:modified xsi:type="dcterms:W3CDTF">2017-07-03T11:22:12Z</dcterms:modified>
  <cp:revision>7</cp:revision>
  <dc:subject>How did Life in Egypt affect Medicine?</dc:subject>
  <dc:title>How did Life in Egypt affect Medicine?</dc:title>
</cp:coreProperties>
</file>